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A85-2A1E-4096-8C54-B151874F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AA5-4D5E-42C0-9116-1722BFB1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832-691F-43B1-ABBD-6BDF6474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05B-C953-4671-B265-42165A40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688-A373-4C38-9290-1C362642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1A2-DA9A-49A0-9890-2B767833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94F-A967-415F-B36E-94439FF2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9C9-B94E-4C6A-B97E-953069F8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934-FC65-41BA-B2EB-7E75EEC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7ED-BE52-4CF5-810E-021544B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FFC-1A81-4E28-9B40-552FA76D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322-BD27-4507-875B-BCFA1155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158D-2056-4A96-9F52-4B55034FA9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1F52-57D6-4E9D-B148-5DA6439A8F3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600" spc="-1" strike="noStrike">
                <a:solidFill>
                  <a:srgbClr val="10253f"/>
                </a:solidFill>
                <a:latin typeface="Calibri"/>
              </a:rPr>
              <a:t>KIJIJI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Canada’s #1 Free Online Classifi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roup 2: Takeshwar Rai, Brett Payne, Cindy Wong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Jessie Gwynne, Michelle Mah</a:t>
            </a:r>
            <a:r>
              <a:rPr b="0" lang="en-CA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2331720"/>
            <a:ext cx="32004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thinking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21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828440"/>
            <a:ext cx="38098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hat is Kij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ast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urpose and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ommunity.jpg"/>
          <p:cNvPicPr/>
          <p:nvPr/>
        </p:nvPicPr>
        <p:blipFill>
          <a:blip r:embed="rId1"/>
          <a:stretch/>
        </p:blipFill>
        <p:spPr>
          <a:xfrm>
            <a:off x="4495680" y="22478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43400" y="205704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st of memb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eedom of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rg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id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No Cost.jpg"/>
          <p:cNvPicPr/>
          <p:nvPr/>
        </p:nvPicPr>
        <p:blipFill>
          <a:blip r:embed="rId1"/>
          <a:stretch/>
        </p:blipFill>
        <p:spPr>
          <a:xfrm>
            <a:off x="914400" y="2590920"/>
            <a:ext cx="26035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ck of personal interaction between administrator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alse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au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reditCardFraud.jpg"/>
          <p:cNvPicPr/>
          <p:nvPr/>
        </p:nvPicPr>
        <p:blipFill>
          <a:blip r:embed="rId1"/>
          <a:stretch/>
        </p:blipFill>
        <p:spPr>
          <a:xfrm>
            <a:off x="4800600" y="3581280"/>
            <a:ext cx="3502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Verification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Encourage different paymen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Other safety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bbq.jpg"/>
          <p:cNvPicPr/>
          <p:nvPr/>
        </p:nvPicPr>
        <p:blipFill>
          <a:blip r:embed="rId1"/>
          <a:stretch/>
        </p:blipFill>
        <p:spPr>
          <a:xfrm>
            <a:off x="5791320" y="1620720"/>
            <a:ext cx="25048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2209320"/>
            <a:ext cx="5867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nvenience vs.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iverse selection of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mprom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ollow safety t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balance-scale.jpg"/>
          <p:cNvPicPr/>
          <p:nvPr/>
        </p:nvPicPr>
        <p:blipFill>
          <a:blip r:embed="rId1"/>
          <a:stretch/>
        </p:blipFill>
        <p:spPr>
          <a:xfrm>
            <a:off x="6019920" y="4572000"/>
            <a:ext cx="22096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133360" y="25146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600" spc="-1" strike="noStrike">
                <a:solidFill>
                  <a:srgbClr val="d9d9d9"/>
                </a:solidFill>
                <a:latin typeface="Calibri"/>
              </a:rPr>
              <a:t>Thank You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3:03Z</dcterms:created>
  <dc:creator>Brett</dc:creator>
  <dc:description/>
  <dc:language>en-US</dc:language>
  <cp:lastModifiedBy>Michelle Mah</cp:lastModifiedBy>
  <dcterms:modified xsi:type="dcterms:W3CDTF">2008-11-26T22:14:18Z</dcterms:modified>
  <cp:revision>14</cp:revision>
  <dc:subject/>
  <dc:title>KIJIJI</dc:title>
</cp:coreProperties>
</file>